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269720" y="595656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971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631920" y="595656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0816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46600" y="2971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26972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80816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8346600" y="595656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3758840" cy="10702800"/>
            <a:chOff x="0" y="0"/>
            <a:chExt cx="13758840" cy="1070280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4932360" y="2011320"/>
              <a:ext cx="596268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0" y="7227720"/>
              <a:ext cx="3071880" cy="34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5"/>
            <a:stretch/>
          </p:blipFill>
          <p:spPr>
            <a:xfrm>
              <a:off x="360360" y="0"/>
              <a:ext cx="1914480" cy="35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6"/>
            <a:stretch/>
          </p:blipFill>
          <p:spPr>
            <a:xfrm>
              <a:off x="9829800" y="7219800"/>
              <a:ext cx="3929040" cy="288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 rot="21492000">
            <a:off x="469440" y="5689440"/>
            <a:ext cx="10160280" cy="2540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8"/>
          <a:stretch/>
        </p:blipFill>
        <p:spPr>
          <a:xfrm>
            <a:off x="622440" y="2349360"/>
            <a:ext cx="11760120" cy="41911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1269720" y="4978440"/>
            <a:ext cx="10464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Click to edit the outline text format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1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econd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2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Third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3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Four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4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Fif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5" algn="ctr">
              <a:buClr>
                <a:srgbClr val="004e74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ix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6" algn="ctr">
              <a:buClr>
                <a:srgbClr val="004e74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even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269720" y="259092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1f1f"/>
                </a:solidFill>
                <a:latin typeface="Georgia Italic"/>
              </a:rPr>
              <a:t>Click to edit the title text format</a:t>
            </a:r>
            <a:endParaRPr b="0" lang="en-US" sz="7200" spc="-1" strike="noStrike">
              <a:solidFill>
                <a:srgbClr val="1f1f1f"/>
              </a:solidFill>
              <a:latin typeface="Georgia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416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70080" y="2654280"/>
            <a:ext cx="487656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1f1f"/>
                </a:solidFill>
                <a:latin typeface="Georgia Italic"/>
              </a:rPr>
              <a:t>Click to edit the title text format</a:t>
            </a:r>
            <a:endParaRPr b="0" lang="en-US" sz="7200" spc="-1" strike="noStrike">
              <a:solidFill>
                <a:srgbClr val="1f1f1f"/>
              </a:solidFill>
              <a:latin typeface="Georgia Ital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70080" y="4991040"/>
            <a:ext cx="4876560" cy="180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Click to edit the outline text format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1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econd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2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Third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3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Four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4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Fif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5" algn="ctr">
              <a:buClr>
                <a:srgbClr val="004e74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ix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6" algn="ctr">
              <a:buClr>
                <a:srgbClr val="004e74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even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0" y="0"/>
            <a:ext cx="13758840" cy="10702800"/>
            <a:chOff x="0" y="0"/>
            <a:chExt cx="13758840" cy="10702800"/>
          </a:xfrm>
        </p:grpSpPr>
        <p:pic>
          <p:nvPicPr>
            <p:cNvPr id="463" name="" descr=""/>
            <p:cNvPicPr/>
            <p:nvPr/>
          </p:nvPicPr>
          <p:blipFill>
            <a:blip r:embed="rId3"/>
            <a:stretch/>
          </p:blipFill>
          <p:spPr>
            <a:xfrm>
              <a:off x="4932360" y="2011320"/>
              <a:ext cx="596268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4"/>
            <a:stretch/>
          </p:blipFill>
          <p:spPr>
            <a:xfrm>
              <a:off x="0" y="7227720"/>
              <a:ext cx="3071880" cy="34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5"/>
            <a:stretch/>
          </p:blipFill>
          <p:spPr>
            <a:xfrm>
              <a:off x="360360" y="0"/>
              <a:ext cx="1914480" cy="35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6"/>
            <a:stretch/>
          </p:blipFill>
          <p:spPr>
            <a:xfrm>
              <a:off x="9829800" y="7219800"/>
              <a:ext cx="3929040" cy="288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7" name="" descr=""/>
          <p:cNvPicPr/>
          <p:nvPr/>
        </p:nvPicPr>
        <p:blipFill>
          <a:blip r:embed="rId7"/>
          <a:stretch/>
        </p:blipFill>
        <p:spPr>
          <a:xfrm>
            <a:off x="622440" y="2781360"/>
            <a:ext cx="11760120" cy="41911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3212640"/>
            <a:ext cx="10464840" cy="3441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1f1f"/>
                </a:solidFill>
                <a:latin typeface="Georgia Italic"/>
              </a:rPr>
              <a:t>Click to edit the title text format</a:t>
            </a:r>
            <a:endParaRPr b="0" lang="en-US" sz="7200" spc="-1" strike="noStrike">
              <a:solidFill>
                <a:srgbClr val="1f1f1f"/>
              </a:solidFill>
              <a:latin typeface="Georgia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0" y="0"/>
            <a:ext cx="13758840" cy="10702800"/>
            <a:chOff x="0" y="0"/>
            <a:chExt cx="13758840" cy="10702800"/>
          </a:xfrm>
        </p:grpSpPr>
        <p:pic>
          <p:nvPicPr>
            <p:cNvPr id="506" name="" descr=""/>
            <p:cNvPicPr/>
            <p:nvPr/>
          </p:nvPicPr>
          <p:blipFill>
            <a:blip r:embed="rId3"/>
            <a:stretch/>
          </p:blipFill>
          <p:spPr>
            <a:xfrm>
              <a:off x="4932360" y="2011320"/>
              <a:ext cx="5962680" cy="36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4"/>
            <a:stretch/>
          </p:blipFill>
          <p:spPr>
            <a:xfrm>
              <a:off x="0" y="7227720"/>
              <a:ext cx="3071880" cy="34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5"/>
            <a:stretch/>
          </p:blipFill>
          <p:spPr>
            <a:xfrm>
              <a:off x="360360" y="0"/>
              <a:ext cx="1914480" cy="35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6"/>
            <a:stretch/>
          </p:blipFill>
          <p:spPr>
            <a:xfrm>
              <a:off x="9829800" y="7219800"/>
              <a:ext cx="3929040" cy="288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0" name="" descr=""/>
          <p:cNvPicPr/>
          <p:nvPr/>
        </p:nvPicPr>
        <p:blipFill>
          <a:blip r:embed="rId7"/>
          <a:stretch/>
        </p:blipFill>
        <p:spPr>
          <a:xfrm rot="21492000">
            <a:off x="469440" y="5689440"/>
            <a:ext cx="10160280" cy="25401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8"/>
          <a:stretch/>
        </p:blipFill>
        <p:spPr>
          <a:xfrm>
            <a:off x="622440" y="2349360"/>
            <a:ext cx="11760120" cy="41911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9"/>
          <a:stretch/>
        </p:blipFill>
        <p:spPr>
          <a:xfrm>
            <a:off x="1384200" y="927000"/>
            <a:ext cx="6451560" cy="19940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1269720" y="4978440"/>
            <a:ext cx="10464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Click to edit the outline text format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1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econd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2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Third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3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Four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4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Fif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5" algn="ctr">
              <a:buClr>
                <a:srgbClr val="004e74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ix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6" algn="ctr">
              <a:buClr>
                <a:srgbClr val="004e74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even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1269720" y="259092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1f1f"/>
                </a:solidFill>
                <a:latin typeface="Georgia Italic"/>
              </a:rPr>
              <a:t>Click to edit the title text format</a:t>
            </a:r>
            <a:endParaRPr b="0" lang="en-US" sz="7200" spc="-1" strike="noStrike">
              <a:solidFill>
                <a:srgbClr val="1f1f1f"/>
              </a:solidFill>
              <a:latin typeface="Georgia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1269720" y="1510920"/>
            <a:ext cx="1046484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35748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64800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983160" indent="-35712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31868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65384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65384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653840" indent="-357480">
              <a:spcBef>
                <a:spcPts val="4799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360"/>
            <a:ext cx="13970160" cy="13968360"/>
            <a:chOff x="0" y="-360"/>
            <a:chExt cx="13970160" cy="1396836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0" y="9582120"/>
              <a:ext cx="139701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rcRect l="13272" t="8696" r="0" b="12760"/>
            <a:stretch/>
          </p:blipFill>
          <p:spPr>
            <a:xfrm>
              <a:off x="1015920" y="2533680"/>
              <a:ext cx="12114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12864960" y="2394000"/>
              <a:ext cx="228600" cy="73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-5725800" y="6838560"/>
              <a:ext cx="139683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7"/>
            <a:srcRect l="37518" t="19754" r="0" b="21078"/>
            <a:stretch/>
          </p:blipFill>
          <p:spPr>
            <a:xfrm>
              <a:off x="1473120" y="267336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8"/>
            <a:srcRect l="0" t="19754" r="37518" b="21078"/>
            <a:stretch/>
          </p:blipFill>
          <p:spPr>
            <a:xfrm>
              <a:off x="1473120" y="949320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9"/>
            <a:srcRect l="61832" t="19660" r="0" b="20983"/>
            <a:stretch/>
          </p:blipFill>
          <p:spPr>
            <a:xfrm rot="16200000">
              <a:off x="-2102400" y="6031440"/>
              <a:ext cx="6996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0"/>
            <a:srcRect l="0" t="19660" r="63424" b="20983"/>
            <a:stretch/>
          </p:blipFill>
          <p:spPr>
            <a:xfrm rot="16200000">
              <a:off x="9629640" y="6097320"/>
              <a:ext cx="6642000" cy="2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6144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65520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994320" indent="-36108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33380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990720" y="254160"/>
            <a:ext cx="11010960" cy="2349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-360"/>
            <a:ext cx="41300280" cy="11860200"/>
            <a:chOff x="0" y="-360"/>
            <a:chExt cx="41300280" cy="11860200"/>
          </a:xfrm>
        </p:grpSpPr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2072628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rcRect l="42593" t="14839" r="0" b="25992"/>
            <a:stretch/>
          </p:blipFill>
          <p:spPr>
            <a:xfrm>
              <a:off x="20688480" y="2133720"/>
              <a:ext cx="1181088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6"/>
            <a:srcRect l="42593" t="14839" r="0" b="25992"/>
            <a:stretch/>
          </p:blipFill>
          <p:spPr>
            <a:xfrm rot="16200000">
              <a:off x="14706360" y="5801760"/>
              <a:ext cx="1186020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7"/>
            <a:srcRect l="66726" t="15501" r="0" b="24764"/>
            <a:stretch/>
          </p:blipFill>
          <p:spPr>
            <a:xfrm rot="16200000">
              <a:off x="29057760" y="5537160"/>
              <a:ext cx="6781680" cy="25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270080" y="29714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0456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55224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83808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12392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774720" y="127080"/>
            <a:ext cx="11442600" cy="2616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e74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004e74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-360"/>
            <a:ext cx="41300280" cy="11860200"/>
            <a:chOff x="0" y="-360"/>
            <a:chExt cx="41300280" cy="1186020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2072628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5"/>
            <a:srcRect l="42593" t="14839" r="0" b="25992"/>
            <a:stretch/>
          </p:blipFill>
          <p:spPr>
            <a:xfrm>
              <a:off x="20688480" y="2133720"/>
              <a:ext cx="1181088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6"/>
            <a:srcRect l="42593" t="14839" r="0" b="25992"/>
            <a:stretch/>
          </p:blipFill>
          <p:spPr>
            <a:xfrm rot="16200000">
              <a:off x="14706360" y="5801760"/>
              <a:ext cx="1186020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7"/>
            <a:srcRect l="66726" t="15501" r="0" b="24764"/>
            <a:stretch/>
          </p:blipFill>
          <p:spPr>
            <a:xfrm rot="16200000">
              <a:off x="29057760" y="5537160"/>
              <a:ext cx="6781680" cy="25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781320" y="297144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0456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55224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83808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12392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990720" y="254160"/>
            <a:ext cx="11010960" cy="2349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-360"/>
            <a:ext cx="13970160" cy="13968360"/>
            <a:chOff x="0" y="-360"/>
            <a:chExt cx="13970160" cy="13968360"/>
          </a:xfrm>
        </p:grpSpPr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0" y="9582120"/>
              <a:ext cx="139701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"/>
            <a:srcRect l="13272" t="8696" r="0" b="12760"/>
            <a:stretch/>
          </p:blipFill>
          <p:spPr>
            <a:xfrm>
              <a:off x="1015920" y="2533680"/>
              <a:ext cx="12114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5"/>
            <a:stretch/>
          </p:blipFill>
          <p:spPr>
            <a:xfrm>
              <a:off x="12864960" y="2394000"/>
              <a:ext cx="228600" cy="73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-5725800" y="6838560"/>
              <a:ext cx="139683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7"/>
            <a:srcRect l="37518" t="19754" r="0" b="21078"/>
            <a:stretch/>
          </p:blipFill>
          <p:spPr>
            <a:xfrm>
              <a:off x="1473120" y="267336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8"/>
            <a:srcRect l="0" t="19754" r="37518" b="21078"/>
            <a:stretch/>
          </p:blipFill>
          <p:spPr>
            <a:xfrm>
              <a:off x="1473120" y="949320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9"/>
            <a:srcRect l="61832" t="19660" r="0" b="20983"/>
            <a:stretch/>
          </p:blipFill>
          <p:spPr>
            <a:xfrm rot="16200000">
              <a:off x="-2102400" y="6031440"/>
              <a:ext cx="6996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0"/>
            <a:srcRect l="0" t="19660" r="63424" b="20983"/>
            <a:stretch/>
          </p:blipFill>
          <p:spPr>
            <a:xfrm rot="16200000">
              <a:off x="9629640" y="6097320"/>
              <a:ext cx="6642000" cy="22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774720" y="127080"/>
            <a:ext cx="11442600" cy="26161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e74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004e74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-360"/>
            <a:ext cx="13970160" cy="13968360"/>
            <a:chOff x="0" y="-360"/>
            <a:chExt cx="13970160" cy="13968360"/>
          </a:xfrm>
        </p:grpSpPr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0" y="9582120"/>
              <a:ext cx="139701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4"/>
            <a:srcRect l="13272" t="8696" r="0" b="12760"/>
            <a:stretch/>
          </p:blipFill>
          <p:spPr>
            <a:xfrm>
              <a:off x="1015920" y="2533680"/>
              <a:ext cx="12114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5"/>
            <a:stretch/>
          </p:blipFill>
          <p:spPr>
            <a:xfrm>
              <a:off x="12864960" y="2394000"/>
              <a:ext cx="228600" cy="73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-5725800" y="6838560"/>
              <a:ext cx="1396836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7"/>
            <a:srcRect l="37518" t="19754" r="0" b="21078"/>
            <a:stretch/>
          </p:blipFill>
          <p:spPr>
            <a:xfrm>
              <a:off x="1473120" y="267336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8"/>
            <a:srcRect l="0" t="19754" r="37518" b="21078"/>
            <a:stretch/>
          </p:blipFill>
          <p:spPr>
            <a:xfrm>
              <a:off x="1473120" y="9493200"/>
              <a:ext cx="114807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9"/>
            <a:srcRect l="61832" t="19660" r="0" b="20983"/>
            <a:stretch/>
          </p:blipFill>
          <p:spPr>
            <a:xfrm rot="16200000">
              <a:off x="-2102400" y="6031440"/>
              <a:ext cx="6996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0"/>
            <a:srcRect l="0" t="19660" r="63424" b="20983"/>
            <a:stretch/>
          </p:blipFill>
          <p:spPr>
            <a:xfrm rot="16200000">
              <a:off x="9629640" y="6097320"/>
              <a:ext cx="6642000" cy="2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6144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65520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994320" indent="-36108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33380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672560" indent="-36144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990720" y="254160"/>
            <a:ext cx="11010960" cy="2349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0" y="-360"/>
            <a:ext cx="41300280" cy="11860200"/>
            <a:chOff x="0" y="-360"/>
            <a:chExt cx="41300280" cy="11860200"/>
          </a:xfrm>
        </p:grpSpPr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2072628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4"/>
            <a:stretch/>
          </p:blipFill>
          <p:spPr>
            <a:xfrm>
              <a:off x="0" y="9042480"/>
              <a:ext cx="20574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5"/>
            <a:srcRect l="42593" t="14839" r="0" b="25992"/>
            <a:stretch/>
          </p:blipFill>
          <p:spPr>
            <a:xfrm>
              <a:off x="20688480" y="2133720"/>
              <a:ext cx="1181088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6"/>
            <a:srcRect l="42593" t="14839" r="0" b="25992"/>
            <a:stretch/>
          </p:blipFill>
          <p:spPr>
            <a:xfrm rot="16200000">
              <a:off x="14706360" y="5801760"/>
              <a:ext cx="1186020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7"/>
            <a:srcRect l="66726" t="15501" r="0" b="24764"/>
            <a:stretch/>
          </p:blipFill>
          <p:spPr>
            <a:xfrm rot="16200000">
              <a:off x="29057760" y="5537160"/>
              <a:ext cx="6781680" cy="25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1270080" y="29714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0456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1" marL="55224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2" marL="83808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3" marL="112392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4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5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lvl="6" marL="1409400" indent="-304560">
              <a:spcBef>
                <a:spcPts val="3200"/>
              </a:spcBef>
              <a:buClr>
                <a:srgbClr val="004e74"/>
              </a:buClr>
              <a:buSzPct val="77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8"/>
          <a:stretch/>
        </p:blipFill>
        <p:spPr>
          <a:xfrm>
            <a:off x="774720" y="127080"/>
            <a:ext cx="11442600" cy="26161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e74"/>
                </a:solidFill>
                <a:latin typeface="Marker Felt"/>
              </a:rPr>
              <a:t>Click to edit the title text format</a:t>
            </a:r>
            <a:endParaRPr b="0" lang="en-US" sz="7200" spc="-1" strike="noStrike">
              <a:solidFill>
                <a:srgbClr val="004e74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6222960"/>
            <a:ext cx="1046484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1f1f"/>
                </a:solidFill>
                <a:latin typeface="Georgia Italic"/>
              </a:rPr>
              <a:t>Click to edit the title text format</a:t>
            </a:r>
            <a:endParaRPr b="0" lang="en-US" sz="7200" spc="-1" strike="noStrike">
              <a:solidFill>
                <a:srgbClr val="1f1f1f"/>
              </a:solidFill>
              <a:latin typeface="Georgia Ital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69720" y="7695720"/>
            <a:ext cx="104648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Click to edit the outline text format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1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econd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2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Third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3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Four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4" algn="ctr">
              <a:buClr>
                <a:srgbClr val="b2312c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Fif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5" algn="ctr">
              <a:buClr>
                <a:srgbClr val="004e74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ix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lvl="6" algn="ctr">
              <a:buClr>
                <a:srgbClr val="004e74"/>
              </a:buClr>
              <a:buFont typeface="Georgia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Seventh Outline Level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0" y="0"/>
            <a:ext cx="34823520" cy="11468160"/>
            <a:chOff x="0" y="0"/>
            <a:chExt cx="34823520" cy="11468160"/>
          </a:xfrm>
        </p:grpSpPr>
        <p:pic>
          <p:nvPicPr>
            <p:cNvPr id="371" name="" descr=""/>
            <p:cNvPicPr/>
            <p:nvPr/>
          </p:nvPicPr>
          <p:blipFill>
            <a:blip r:embed="rId3"/>
            <a:stretch/>
          </p:blipFill>
          <p:spPr>
            <a:xfrm>
              <a:off x="11557080" y="218448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4"/>
            <a:srcRect l="0" t="0" r="41108" b="0"/>
            <a:stretch/>
          </p:blipFill>
          <p:spPr>
            <a:xfrm>
              <a:off x="11557080" y="2273400"/>
              <a:ext cx="1148076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5"/>
            <a:stretch/>
          </p:blipFill>
          <p:spPr>
            <a:xfrm>
              <a:off x="0" y="1076976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6"/>
            <a:stretch/>
          </p:blipFill>
          <p:spPr>
            <a:xfrm>
              <a:off x="23355360" y="10756800"/>
              <a:ext cx="114681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5790960" y="5626080"/>
              <a:ext cx="1146816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8"/>
            <a:srcRect l="0" t="0" r="57270" b="0"/>
            <a:stretch/>
          </p:blipFill>
          <p:spPr>
            <a:xfrm rot="5400000">
              <a:off x="7477560" y="6427080"/>
              <a:ext cx="824868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9"/>
            <a:srcRect l="44581" t="0" r="0" b="0"/>
            <a:stretch/>
          </p:blipFill>
          <p:spPr>
            <a:xfrm>
              <a:off x="11580840" y="10621800"/>
              <a:ext cx="1176336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0"/>
            <a:stretch/>
          </p:blipFill>
          <p:spPr>
            <a:xfrm>
              <a:off x="22987080" y="2222640"/>
              <a:ext cx="393480" cy="8750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hyperlink" Target="http://cooltext.com/" TargetMode="External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 rot="21498000">
            <a:off x="1634760" y="6589440"/>
            <a:ext cx="83818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6c8c"/>
                </a:solidFill>
                <a:latin typeface="Marker Felt"/>
                <a:ea typeface="Marker Felt"/>
              </a:rPr>
              <a:t>Atomic Mass 78.96    Atomic Number 34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6c8c"/>
                </a:solidFill>
                <a:latin typeface="Marker Felt"/>
                <a:ea typeface="Marker Felt"/>
              </a:rPr>
              <a:t>Ions of Element: 2-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269720" y="4978440"/>
            <a:ext cx="10464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312c"/>
                </a:solidFill>
                <a:latin typeface="Georgia Italic"/>
              </a:rPr>
              <a:t>Element Symbol: Se</a:t>
            </a:r>
            <a:endParaRPr b="0" lang="en-US" sz="3800" spc="-1" strike="noStrike">
              <a:solidFill>
                <a:srgbClr val="b2312c"/>
              </a:solidFill>
              <a:latin typeface="Georgia Italic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2496960" y="3187800"/>
            <a:ext cx="7994880" cy="19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Bibliography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269720" y="2971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rmAutofit fontScale="73000"/>
          </a:bodyPr>
          <a:p>
            <a:pPr marL="296640" indent="-296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ks Cited</a:t>
            </a:r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  <a:p>
            <a:pPr marL="296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Cool Text: Logo and Graphics Generator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ol Text: Logo and Graphics Gen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N.p., n.d. Web. 30 Nov. 2009. &lt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cooltext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gt;.</a:t>
            </a:r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  <a:p>
            <a:pPr marL="296640" indent="0">
              <a:lnSpc>
                <a:spcPts val="2699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Periodic Table of the Elements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airie Hills Middle School Student Handbook 2009-20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ug. 2009: 109. Print.</a:t>
            </a:r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  <a:p>
            <a:pPr marL="296640" indent="0">
              <a:lnSpc>
                <a:spcPts val="2699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Selenium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ld Boo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Student ed. 2009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len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Web. 19 Nov. 2009.</a:t>
            </a:r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  <a:p>
            <a:pPr marL="296640" indent="0">
              <a:lnSpc>
                <a:spcPts val="2699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Selenium.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ld Boo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Student ed. 2009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ld Boo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Web. 23 Nov. 2009.</a:t>
            </a:r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  <a:p>
            <a:pPr marL="296640" indent="0">
              <a:lnSpc>
                <a:spcPts val="2699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odic Table-Selen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2009. None, Unknow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ld Boo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Web. 24 Nov. 2009.</a:t>
            </a:r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  <a:p>
            <a:pPr marL="296640" indent="0">
              <a:lnSpc>
                <a:spcPts val="2699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odic T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2009. None, Unknow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ld Boo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Web. 23 Nov. 2009.</a:t>
            </a:r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  <a:p>
            <a:pPr marL="296640" indent="0">
              <a:lnSpc>
                <a:spcPts val="2699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leniu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2009. None, Unknow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odic T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Web. 23 Nov. 2009.</a:t>
            </a:r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  <a:p>
            <a:pPr marL="296640" indent="0">
              <a:lnSpc>
                <a:spcPts val="2699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N.d. None, Unknow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oogle Im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Web. 23 Nov. 2009.</a:t>
            </a:r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  <a:p>
            <a:pPr marL="296640" indent="0">
              <a:lnSpc>
                <a:spcPts val="2699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lenium Struc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2009. none, unknow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lem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Web. 23 Nov. 2009.</a:t>
            </a:r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  <a:p>
            <a:pPr marL="2966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  <a:p>
            <a:pPr marL="296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  <a:p>
            <a:pPr marL="296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LA formatting by BibMe.org.</a:t>
            </a:r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  <a:p>
            <a:pPr marL="296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Picture of Selenium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4267080" y="3594240"/>
            <a:ext cx="466416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Periodic Table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4229280" y="3300480"/>
            <a:ext cx="7607160" cy="43066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8610480" y="5143680"/>
            <a:ext cx="635040" cy="622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50" name=""/>
          <p:cNvSpPr/>
          <p:nvPr/>
        </p:nvSpPr>
        <p:spPr>
          <a:xfrm>
            <a:off x="738360" y="3619440"/>
            <a:ext cx="339084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Selenium is #34. It is in the non-metal group and the 16th period.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  <p:sp>
        <p:nvSpPr>
          <p:cNvPr id="651" name=""/>
          <p:cNvSpPr/>
          <p:nvPr/>
        </p:nvSpPr>
        <p:spPr>
          <a:xfrm>
            <a:off x="10109160" y="4826160"/>
            <a:ext cx="622440" cy="546120"/>
          </a:xfrm>
          <a:prstGeom prst="ellipse">
            <a:avLst/>
          </a:prstGeom>
          <a:noFill/>
          <a:ln w="2556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Periodic Table Zoomed In On Selenium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2158920" y="3456000"/>
            <a:ext cx="8680680" cy="47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Isotopes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6134040" y="3492360"/>
            <a:ext cx="4038840" cy="467388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1439280" y="5274000"/>
            <a:ext cx="4019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Isotopes ------&gt;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Ions of element: 2-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Structure of Atom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095880" y="3733920"/>
            <a:ext cx="4457880" cy="41925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1682640" y="5274000"/>
            <a:ext cx="2670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Protons : 34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Neutrons:45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Discovery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7353360" y="3035160"/>
            <a:ext cx="3505320" cy="55753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2236680" y="4730760"/>
            <a:ext cx="392436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Selenium was discovered in Sweden by Jons J. Berzelius in 1817.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Selenium’s Uses And Interesting Facts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8775720" y="3975120"/>
            <a:ext cx="3048120" cy="30099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574640" y="4127400"/>
            <a:ext cx="674388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Selenium is in copper, lead, and silver. It is also in dandruff shampoo and in some natural energy drinks. It also helps with brain development.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37d3c"/>
                </a:solidFill>
                <a:latin typeface="Marker Felt"/>
              </a:rPr>
              <a:t>Physical Properties</a:t>
            </a:r>
            <a:endParaRPr b="0" lang="en-US" sz="7200" spc="-1" strike="noStrike">
              <a:solidFill>
                <a:srgbClr val="437d3c"/>
              </a:solidFill>
              <a:latin typeface="Marker Felt"/>
            </a:endParaRPr>
          </a:p>
        </p:txBody>
      </p:sp>
      <p:sp>
        <p:nvSpPr>
          <p:cNvPr id="667" name=""/>
          <p:cNvSpPr/>
          <p:nvPr/>
        </p:nvSpPr>
        <p:spPr>
          <a:xfrm>
            <a:off x="4446720" y="3517920"/>
            <a:ext cx="410184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e74"/>
                </a:solidFill>
                <a:latin typeface="Georgia"/>
                <a:ea typeface="Georgia"/>
              </a:rPr>
              <a:t>Selenium is grey and it melts at 217*C and boils at 685*C. If it is in a solid form.</a:t>
            </a:r>
            <a:endParaRPr b="0" lang="en-US" sz="3600" spc="-1" strike="noStrike">
              <a:solidFill>
                <a:srgbClr val="004e74"/>
              </a:solidFill>
              <a:latin typeface="Georgia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